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55A-902F-456B-9DFF-C0E74011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21A-1C6C-4C0C-9586-DE489BC7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0CA-B43B-4A33-BADB-B1626AC6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E4D-A66A-4C4F-B6C6-CE634630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67D8-316B-4083-92C7-8247AE27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5087-C71A-4186-899B-3C3CA3AF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1C1B-001E-4B4C-B810-5FC97993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010F-8327-4F63-B61B-A3361F2C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16E0-985D-4357-9DF2-C743988E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1C7-C916-4303-9A78-F19F231A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58DC-1F6F-4D6A-A3BC-690AA43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619-523A-44E0-84B7-F6EE59E7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22C9-CC53-4ED9-BEEF-A9438D4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A4A3-24A0-4436-85EC-84F299B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4E7B-5129-4A6F-AFBE-FB2CDCBE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D704-CCD0-4B35-AA42-AE15B287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9A89-DD86-4E16-BA98-60396B01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0DF2-A4FB-439F-85F7-44B61DA8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4D43B-D07F-4872-A51D-800592BD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AC2D-7789-4DE5-9654-FEC3C17E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E5C3-1C0F-4111-9D85-21E40C28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41F1-C689-4FEB-BA09-51CA5816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992-E79F-4507-A9F6-433FB1AB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4767-CDA9-4757-99C2-930522B5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0DA4-AB16-4A0C-9D51-FEB3E2A2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035E-08A5-47F9-AFEC-E3D80F9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C23B-18EB-4032-B043-B9C7A128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16D3-B767-439B-911B-52A3B034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9B24-C1A9-4998-A2F0-06681956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620A-6966-4056-BA9D-A2207441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10997-17AC-4F6C-A95A-45E5954D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D59E-4C2D-4430-8B6D-B6838059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6DF67-3C9F-490A-AE6D-0C7AE851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D1F-C682-479C-9F21-F66C1EB1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D878-FBC2-4BBE-BF0F-FAF248B9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6D78-A062-402E-B93B-11766549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BC1DC-ADAB-444F-A898-C077131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1397-00BF-4658-8D74-895AB74B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6B63-533E-44F0-BA9B-14509A1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383C-9B74-4644-8428-7C7827C2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84403-743B-4F8A-B464-B442EC08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842D-47AB-466A-82B8-D441B94D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DE5A-7A7C-4D68-B017-31ABE412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B3F6-8682-47E4-AB21-1330DD53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DF4-6B2C-421B-BAC8-98E5B194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B8805-6ED4-467A-B27E-97D81615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3C15-A074-47DE-9442-AEBE3561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02372-7758-4CE4-AAD5-BAC6208A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7DB8A-4FDC-47B3-8158-D3A188D3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746A-3E0C-46CF-BB37-29D1B320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68ABA-9D04-47CF-A1F1-10BD6AB3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00F9-4827-458A-B84B-2696260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909E5-1DE4-49D5-B6C8-113F629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8CCA-9635-4AB5-AF14-EF49A671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086F-6824-45D2-A89F-9A83E384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778-007A-4FA6-9181-A975EBCC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7133-F9B0-4930-9A1F-8FD69C99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120-0511-49D6-A766-FE7DD577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5F7-C81D-493C-9AD4-94A7DE19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64B-0B5B-4D81-8399-57E7E39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5559-220C-46B9-BD74-EA3A0D0F842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2B11-6463-49CB-B635-92F73CE9158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E148-8CA1-477D-A502-62EA4338110A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32A-40FA-4EFE-AC8D-FB7D456CF1D9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FE45-10F2-4784-A1AD-7C18426D8A71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Franklin Gothic Book"/>
              </a:rPr>
              <a:t>福慧基金會報告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文字方塊 2"/>
          <p:cNvSpPr/>
          <p:nvPr/>
        </p:nvSpPr>
        <p:spPr>
          <a:xfrm>
            <a:off x="4859280" y="328464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102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學年度下學期會務報告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~</a:t>
            </a:r>
            <a:r>
              <a:rPr b="0" lang="zh-TW" sz="4400" spc="-1" strike="noStrike">
                <a:solidFill>
                  <a:srgbClr val="696464"/>
                </a:solidFill>
                <a:latin typeface="Franklin Gothic Book"/>
              </a:rPr>
              <a:t>感謝本學年福慧委員</a:t>
            </a: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~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03280" y="1628280"/>
            <a:ext cx="6337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會長：黃惠明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總務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何新梅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輔導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游美月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、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張沛檥 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文書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林恩宇 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活動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陳怡蒨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機動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簡秀萍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11" descr="http://www.my-hiend.com/vbb/images/smilies/5.png"/>
          <p:cNvPicPr/>
          <p:nvPr/>
        </p:nvPicPr>
        <p:blipFill>
          <a:blip r:embed="rId1"/>
          <a:stretch/>
        </p:blipFill>
        <p:spPr>
          <a:xfrm>
            <a:off x="6659640" y="4508640"/>
            <a:ext cx="1886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96464"/>
                </a:solidFill>
                <a:latin typeface="Franklin Gothic Book"/>
              </a:rPr>
              <a:t>本學年捐款收支：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71480" y="1484280"/>
            <a:ext cx="7772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本學期收入共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21,490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本學期支出共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74,403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借款：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健康中心「急難救助金」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15,000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本學期餘額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47,087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目前總餘額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707,087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2" descr="http://www.my-hiend.com/vbb/images/smilies/159.png"/>
          <p:cNvPicPr/>
          <p:nvPr/>
        </p:nvPicPr>
        <p:blipFill>
          <a:blip r:embed="rId1"/>
          <a:stretch/>
        </p:blipFill>
        <p:spPr>
          <a:xfrm>
            <a:off x="5889600" y="260280"/>
            <a:ext cx="2790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96464"/>
                </a:solidFill>
                <a:latin typeface="Franklin Gothic Book"/>
              </a:rPr>
              <a:t>感恩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所有捐款老師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教師會上學期義賣所得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3,780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校外人士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游淡女士捐款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30,000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元，達利行潘太太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3,000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元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9" descr="http://www.my-hiend.com/vbb/images/smilies/144.png"/>
          <p:cNvPicPr/>
          <p:nvPr/>
        </p:nvPicPr>
        <p:blipFill>
          <a:blip r:embed="rId1"/>
          <a:stretch/>
        </p:blipFill>
        <p:spPr>
          <a:xfrm>
            <a:off x="5651640" y="4149720"/>
            <a:ext cx="24573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傳承：請記得在選票上按</a:t>
            </a:r>
            <a:r>
              <a:rPr b="1" lang="zh-TW" sz="4800" spc="-1" strike="noStrike">
                <a:solidFill>
                  <a:srgbClr val="696464"/>
                </a:solidFill>
                <a:latin typeface="Franklin Gothic Book"/>
              </a:rPr>
              <a:t>讚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~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55280" y="1773360"/>
            <a:ext cx="7931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下屆委員推薦名單：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林恩宇、周桂英、曾國誌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王莉婷、張耕翰、李志偉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其他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H:\其他\圖資源\表情\各種表情1030619.jpg"/>
          <p:cNvPicPr/>
          <p:nvPr/>
        </p:nvPicPr>
        <p:blipFill>
          <a:blip r:embed="rId1"/>
          <a:srcRect l="33765" t="33740" r="33844" b="34503"/>
          <a:stretch/>
        </p:blipFill>
        <p:spPr>
          <a:xfrm>
            <a:off x="6012000" y="4076640"/>
            <a:ext cx="2369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6:05:30Z</dcterms:created>
  <dc:creator>讀者服務組</dc:creator>
  <dc:description/>
  <dc:language>en-US</dc:language>
  <cp:lastModifiedBy>TPC</cp:lastModifiedBy>
  <dcterms:modified xsi:type="dcterms:W3CDTF">2014-06-30T04:17:55Z</dcterms:modified>
  <cp:revision>32</cp:revision>
  <dc:subject/>
  <dc:title>福慧基金會報告</dc:title>
</cp:coreProperties>
</file>